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3DB53-BC1B-4E34-8C54-389F31574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3643-CA29-4346-A629-C5583FD46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8170D-0EF2-4B98-8585-70A276D1B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DB4CD-3167-4D5A-AB3F-9FBBBBD7D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DBFF0-A369-454C-87ED-009A3768C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C7E90-1DAE-4A2B-B092-1D7E11DCC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AD949-BD2B-4968-97D5-113D9D7C0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5184E-DCBF-480E-9DEC-AA04B946F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2F7A1-6648-4160-91C5-00E9B9D5C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14CE3-17BD-4075-A8BA-44BEC8F8F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E0129-3A37-42F3-96D5-F11674C09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A254-4ECE-46ED-A60A-063FBB8C7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28CC-4329-442D-ADB4-1F56EAD97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0EFD1-BAF1-4898-8515-6AB918242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059C0-C128-445A-954F-BB0E0AC89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85E6A-78E7-48A4-B0E6-244D7B3F6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E50D3-B639-4D53-9F51-05A7970B2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5E34-21CB-4856-9797-996E2855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DA1C0-2C78-4DB4-B2C3-0D4323D7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8758-B573-479B-B2A9-484CD3BE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2E062-5F03-4341-B711-0EBB22C7E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1C12-D88C-4698-B207-7F5EC4EA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84D0-7D66-485E-857D-B6E24C84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4531-6ED0-4990-843E-D9FBC09B7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9570-71FD-44A4-94B3-B5FD71ABE6F9}" type="slidenum">
              <a:rPr b="0" lang="sr-Latn-C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9D08-873E-42FA-A988-0CF644CD3224}" type="slidenum">
              <a:rPr b="0" lang="sr-Latn-C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0168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b7e7ff"/>
                </a:solidFill>
                <a:latin typeface="Arial"/>
              </a:rPr>
              <a:t>ЦЕФТА –</a:t>
            </a:r>
            <a:br>
              <a:rPr sz="3600"/>
            </a:br>
            <a:r>
              <a:rPr b="1" lang="sr-CS" sz="3600" spc="-1" strike="noStrike">
                <a:solidFill>
                  <a:srgbClr val="b7e7ff"/>
                </a:solidFill>
                <a:latin typeface="Arial"/>
              </a:rPr>
              <a:t>јачање конкуренције и слабљење монопола</a:t>
            </a:r>
            <a:endParaRPr b="0" lang="en-US" sz="3600" spc="-1" strike="noStrike">
              <a:solidFill>
                <a:srgbClr val="b7e7ff"/>
              </a:solidFill>
              <a:latin typeface="Arial"/>
            </a:endParaRPr>
          </a:p>
        </p:txBody>
      </p:sp>
      <p:sp>
        <p:nvSpPr>
          <p:cNvPr id="83" name="PlaceHolder 2"/>
          <p:cNvSpPr>
            <a:spLocks noGrp="1"/>
          </p:cNvSpPr>
          <p:nvPr>
            <p:ph type="subTitle"/>
          </p:nvPr>
        </p:nvSpPr>
        <p:spPr>
          <a:xfrm>
            <a:off x="1332000" y="450864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Др Владана Хамовић, Др Јонел Субић</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Институт за економику пољопривреде</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sr-CS" sz="2800" spc="-1" strike="noStrike">
                <a:solidFill>
                  <a:srgbClr val="b7e7ff"/>
                </a:solidFill>
                <a:latin typeface="Arial"/>
              </a:rPr>
              <a:t>Удео и значај монополских структура може се смањити искључиво јачањем конкуренције</a:t>
            </a:r>
            <a:r>
              <a:rPr b="0" lang="sr-CS" sz="3200" spc="-1" strike="noStrike">
                <a:solidFill>
                  <a:srgbClr val="b7e7ff"/>
                </a:solidFill>
                <a:latin typeface="Arial"/>
              </a:rPr>
              <a:t>.</a:t>
            </a:r>
            <a:r>
              <a:rPr b="0" lang="sr-CS" sz="4400" spc="-1" strike="noStrike">
                <a:solidFill>
                  <a:srgbClr val="b7e7ff"/>
                </a:solidFill>
                <a:latin typeface="Arial"/>
              </a:rPr>
              <a:t> </a:t>
            </a:r>
            <a:br>
              <a:rPr sz="4400"/>
            </a:b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Arial"/>
              </a:rPr>
              <a:t>Све чланице ЦЕФТА током транзиције само су делимично успеле да промене наслеђену привредну структуру, али се нису у потпуности избориле са монополима. У сваком случају, против монопола се треба борити управо јачањем конкуренције, између осталог и кроз овакве аранжмане, као што је ЦЕФТА, и да је при том важна улога државе, односно антимонополске комисије, чији је задатак да укаже и на тржишне девијације и отклони их кроз либерализацију спољне трговине. Ни једна земља, ма како развијена била, не може се у потпуности изборити са монополским структурама, које се, вођене логиком интереса, увек јављају, и њихов удео и значај могу се увелико смањити и то искључиво јачањем конкуренције. </a:t>
            </a:r>
            <a:endParaRPr b="0" lang="en-US" sz="1600" spc="-1" strike="noStrike">
              <a:solidFill>
                <a:srgbClr val="ffffff"/>
              </a:solidFill>
              <a:latin typeface="Arial"/>
            </a:endParaRPr>
          </a:p>
          <a:p>
            <a:pPr marL="305280" indent="-3052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Arial"/>
              </a:rPr>
              <a:t>Уз подсећање да је слободан проток робе у региону био загарантован и ранијим, билатералним споразумима, нови мултилатерални споразум омогућиће да се роба, без икаквих ограничења, несметано креће унутар ЦЕФТА, уз истовремено смањење трошкова. Фирмама, навиклим на државну заштиту, ЦЕФТА неће бити по мери. Она ће заоштрити конкуренцију и сасвим је извесно да ће неке домаће фирме изгубити део купаца. Произвођачи ће кроз јачу тржишну утакмицу, коју намеће ЦЕФТА, заправо почети да се прилагођавају и за наступ на тржишту Европске уније. Суштина ЦЕФТА, као почетног степена интеграције и јесте да створи повољније услове за произвођаче и потрошаче, да и једнима и другима пружи нове могућности. За произвођаче је то, по њеним речима, својеврсни тренинг за много оштрију конкуренцију, која их чека на тржишту ЕУ. Генерално, ЦЕФТА ће за добре фирме значити велику шансу, а за лоше корак ближе стечају. Променом услова и начина пословања управо ће се појачати диференцијација између добрих и лоших, што је чак добар тренинг, први корак ка ЕУ у смислу прилагођавања пословне политике наших фирми новим стандардима, потпуно другачијем приступу иностраном тржишту, што појединим фирмама из Србије итекако недостаје и управо ће се ту правити најоштрија селекција. </a:t>
            </a:r>
            <a:endParaRPr b="0" lang="en-US" sz="1600" spc="-1" strike="noStrike">
              <a:solidFill>
                <a:srgbClr val="ffffff"/>
              </a:solidFill>
              <a:latin typeface="Arial"/>
            </a:endParaRPr>
          </a:p>
          <a:p>
            <a:pPr marL="30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b7e7ff"/>
                </a:solidFill>
                <a:latin typeface="Arial"/>
              </a:rPr>
              <a:t>Боље организација потрошачког друштва</a:t>
            </a:r>
            <a:endParaRPr b="0" lang="en-US" sz="32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Са променом услова пословања неопходно је боље организовати потрошачко друштво на начин тако да се бар приближимо искуствима развијених земаља, без обзира што услови за то нису уопште тешки. Јасна и доследна примена нових прописа и правила у које се може убројити и формирање ЦЕФТА, свакако ће допринети побољшању постојећих односа на тржишту. То ће утицати корективно и позитивно на конкуренцију и самим тим смањити утицај монопола. Дефинитивно опредељење за тржишни и профитни начин пословања и размишљања, предузетништво и власничка трансформација привреде, представља широку, али неопходну основу да се на савремен начин реши и питање организовања и заштите интереса потрошача у Србији. Ако се погледа шта је на том плану урадила Влада Србије, не може се наћи оправдање што није, бар морално, ако не и неким мањим средствима подржала и помогла акције невладиних, непрофитних организација за заштиту потрошача, између којих не постоји потребан степен координације.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8920" y="620280"/>
            <a:ext cx="8612280" cy="5472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Успостављање зоне слободне трговине у региону југоисточне Европе на основу Меморандума о либерализацији и олакшицама у трговини који је потписан јуна 2001.године у Бриселу, у оквиру пакта стабилности,  приступиле су Албанија, БиХ, Бугарска, Хрватска, Македонија, Молдавија, Румунија и СР Југославија. Потписивањем меморандума постављена је основа склапање билатералних споразума између земаља ЈИЕ и успостављена мрежа од 28 споразума, на принципу Општег споразума о трговини и царинама (ГАТТ-1994) и Споразума о оснивању Светске трговинске организације СТО. Идеја о јединственом мултилатералном споразуму о слободној трговини у региону појавила се потребом рационализације спровођења споразума и стварања већег степена предвидивости, али и као последица комликоване мреже великог броја споразума.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4000" y="475920"/>
            <a:ext cx="8540640" cy="5646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Arial"/>
              </a:rPr>
              <a:t>Основни циљ замене мреже билатералних споразума о слободној трговини јединственим Споразумом су били –</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Повећање обима међународне трговине и директних инвестиција у ЈИЕ,</a:t>
            </a: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Даља либерализација и олакшавање трговине,</a:t>
            </a: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Повећање степена хармонизација и тренспарентности,</a:t>
            </a: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Јачање регионалне сарадње,</a:t>
            </a: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Олакшано администратирање владама у трговини и трговинским режимима,</a:t>
            </a: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Обезбеђење ефикасног механизма решавања трговинских спорова између уговорних страна, </a:t>
            </a:r>
            <a:endParaRPr b="0" lang="en-US" sz="2400" spc="-1" strike="noStrike">
              <a:solidFill>
                <a:srgbClr val="ffffff"/>
              </a:solidFill>
              <a:latin typeface="Arial"/>
            </a:endParaRPr>
          </a:p>
          <a:p>
            <a:pPr marL="609480" indent="-60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Допринос даљем развоју односа потписница са ЕУ и пуној интеграцији у систем међународне трговине.</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764640"/>
            <a:ext cx="88423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ЦЕФТА је модеран и свеобухватан Споразум о слободној трговини у региону југоисточне Европе. Њиме је унапређен процес либерализације трговинског режима, који укључује и увођење савремених стандарда у области трговинске политике и конкуренције, државне помоћи, јавних набавки, интелектуалне својине и трговине услугама у складу са правима и процедурама СТО. Реализација споразума треба да води повећању обима трговине у региону, већој јавности и прегледности пословања. Укључивањем у паневропску зону дијагоналне кумулације порекла производа и ствара се нови оквир за трговину и инвестиције, што ће утицати на повећање запослености и општи економски развој.</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60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b7e7ff"/>
                </a:solidFill>
                <a:latin typeface="Arial"/>
              </a:rPr>
              <a:t>Принципи на којима се темељи израда Споразума су –</a:t>
            </a:r>
            <a:br>
              <a:rPr sz="2800"/>
            </a:br>
            <a:endParaRPr b="0" lang="en-US" sz="28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Надовезивање на постојеће билатералне споразуме о слободној трговин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Базирање на постојећем ЦЕФТА споразуму уз допуну нових области – услуга, интелектуалне својине, јавне набавке и инвестиције,</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Усклађивање са прописима и процедурама СТО,</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Усклађивање са Меморандумом о либарализацији и олакшању трговине,</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Хармонизација материје билатералних споразума ради повећања транспа</a:t>
            </a:r>
            <a:r>
              <a:rPr b="0" lang="en-US" sz="2400" spc="-1" strike="noStrike">
                <a:solidFill>
                  <a:srgbClr val="ffffff"/>
                </a:solidFill>
                <a:latin typeface="Arial"/>
              </a:rPr>
              <a:t>р</a:t>
            </a:r>
            <a:r>
              <a:rPr b="0" lang="sr-CS" sz="2400" spc="-1" strike="noStrike">
                <a:solidFill>
                  <a:srgbClr val="ffffff"/>
                </a:solidFill>
                <a:latin typeface="Arial"/>
              </a:rPr>
              <a:t>ентно-сти и предвидљивост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Обезбеђивање институционалног оквира за управљање Споразумом, контролу ефикасности и примену истог.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50560" y="259920"/>
            <a:ext cx="8591400" cy="58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редности ЦЕФТЕ 2006 с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Слободан проток људи, робе и идеја, вишеструко повећање размене, усклађивање привредног развоја, сварање знатно већег тржишта и побољшање привредне ситуациј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овећање прилива страних инвестиција у региону, на које ће знатно утицати стварање јединственог тржишт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одизање технолочког нивоа производње, продуктивности, ефикасности и примене савременог менаџмента, као ефекти тржишних услова пословањ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Обезбеђивање потрошачима већег стандарда кроз разноврснију понуду квалитетније и јевтиније роб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Убрзавање процеса приступања СТО и ЕУ.</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У оквиру текста ЦЕФТЕ који је распоређен у седам поглавља, интересантно је осврнути се на тему </a:t>
            </a:r>
            <a:r>
              <a:rPr b="1" lang="sr-CS" sz="2000" spc="-1" strike="noStrike">
                <a:solidFill>
                  <a:srgbClr val="ffffff"/>
                </a:solidFill>
                <a:latin typeface="Arial"/>
              </a:rPr>
              <a:t>Општих одредби из главе В.</a:t>
            </a:r>
            <a:r>
              <a:rPr b="0" lang="sr-CS" sz="2000" spc="-1" strike="noStrike">
                <a:solidFill>
                  <a:srgbClr val="ffffff"/>
                </a:solidFill>
                <a:latin typeface="Arial"/>
              </a:rPr>
              <a:t> </a:t>
            </a:r>
            <a:r>
              <a:rPr b="1" lang="sr-CS" sz="2000" spc="-1" strike="noStrike">
                <a:solidFill>
                  <a:srgbClr val="ffffff"/>
                </a:solidFill>
                <a:latin typeface="Arial"/>
              </a:rPr>
              <a:t>где су између осталог дефинисана и правила конкуренције – државни монополи, правила конкуренције међу предузећима, правила о заштити контигената, дампинг и опште заштитне мере и остало.</a:t>
            </a:r>
            <a:r>
              <a:rPr b="0" lang="sr-C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То је област којом ћемо морати доста да се позабавимо</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b7e7ff"/>
                </a:solidFill>
                <a:latin typeface="Arial"/>
              </a:rPr>
              <a:t>Интереси потрошача у колизији са монополима</a:t>
            </a:r>
            <a:endParaRPr b="0" lang="en-US" sz="32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Милиони потрошача у Србији и свим земљама региона, које би до краја првог полугођа ове године требало да ратификују споразум о зони слободне трговине, ЦЕФТА, надају се да ће осетити његове благодети у виду боље и квалитетније понуде, али и нешто нижих цена. Иако би за логично било очекивати да ће до тога довести заоштравање конкуренције, не постоје никакве гаранације да ће се то и десити. Снажни монополи, наиме, представљају, главну сметњу том, за потрошаче позитивном развоју ситуације, јер интереси неколико, у регионалним оквирима прилично моћних компанија, битно се разликују од интереса милиона грађа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b7e7ff"/>
                </a:solidFill>
                <a:latin typeface="Arial"/>
              </a:rPr>
              <a:t>Проширење тржишта за квалитетну и ценовно конкурентну робу</a:t>
            </a:r>
            <a:r>
              <a:rPr b="0" lang="sr-CS" sz="4400" spc="-1" strike="noStrike">
                <a:solidFill>
                  <a:srgbClr val="b7e7ff"/>
                </a:solidFill>
                <a:latin typeface="Arial"/>
              </a:rPr>
              <a:t>  </a:t>
            </a:r>
            <a:endParaRPr b="0" lang="en-US" sz="4400" spc="-1" strike="noStrike">
              <a:solidFill>
                <a:srgbClr val="b7e7ff"/>
              </a:solidFill>
              <a:latin typeface="Arial"/>
            </a:endParaRPr>
          </a:p>
        </p:txBody>
      </p:sp>
      <p:sp>
        <p:nvSpPr>
          <p:cNvPr id="93" name="PlaceHolder 2"/>
          <p:cNvSpPr>
            <a:spLocks noGrp="1"/>
          </p:cNvSpPr>
          <p:nvPr>
            <p:ph/>
          </p:nvPr>
        </p:nvSpPr>
        <p:spPr>
          <a:xfrm>
            <a:off x="250920" y="21333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Arial"/>
              </a:rPr>
              <a:t>ЦЕФТА ће свакако више користи донети привредама које производе квалитетну робу, која има потребне сертификате и која је ценовно конкурентна. У сваком случају, стварањем ЦЕФТА прошириће се тржиште и за наше, али и за произвођаче из суседних земаља, јер ће се и њима отворити могућност већег присуства на српском тржишту, а самим тим ће и потрошачи у Србији имати могућност већег избора</a:t>
            </a:r>
            <a:r>
              <a:rPr b="0" lang="en-US" sz="1800" spc="-1" strike="noStrike">
                <a:solidFill>
                  <a:srgbClr val="ffffff"/>
                </a:solidFill>
                <a:latin typeface="Arial"/>
              </a:rPr>
              <a:t>. </a:t>
            </a:r>
            <a:r>
              <a:rPr b="0" lang="sr-CS" sz="1800" spc="-1" strike="noStrike">
                <a:solidFill>
                  <a:srgbClr val="ffffff"/>
                </a:solidFill>
                <a:latin typeface="Arial"/>
              </a:rPr>
              <a:t>Међутим, не очекују да ће ЦЕФТА, сама по себи, довести до таласа појефтињења. Обарање цена зависи, наиме, од конфигурације тржишта. Ако је оно подложно монополизацији или картелизацији, онда ни стварање шире зоне слободне трговине неће аутоматски разбити те картеле. Тај посао, по њиховом уверењу, прво мора да се одради на националном плану, у свакој чланици ЦЕФТА, активирањем антимонополских инструмената. То је услов да корист од стварања ЦЕФТА осете и потрошачи, наглашавају добри познаваоци прилика у региону и стручњаци за спољну трговину, уз објашњење да је логика монопола свуда иста, а њих има у скоро свим земљама регион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b7e7ff"/>
                </a:solidFill>
                <a:latin typeface="Arial"/>
              </a:rPr>
              <a:t>Конкурентност домаће робе</a:t>
            </a:r>
            <a:endParaRPr b="0" lang="en-US" sz="32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Arial"/>
              </a:rPr>
              <a:t>Имајући у виду структуру спољнотрговинске размене Србије са светом у којој доминирају полуфабрикати и сировине, као и висок дефицит који резултира мање или више из тако структуриране привреде, поставља се и питање конкурентности извозно оријентисане понуде. Суфицит у извозу вредан 160 милиона долара Србија је остварила у размени хране (75 мил.долара у извозу воћа и поврћа и 85 мил.долара кдо житарица и производа од њих). То је такође проблем са којим ћемо се брзо суочити, јер Србије има мало квалитетне робе која би могла бити конкурентна на страном тржишту.Роба намењена извозу не само да није конкурентна по квалитету, већ и по цени, дизајну, амбалажи. Цене производа су у просеку за око 20% више од истих на иностраном тржишту, а то у знатно повећаној конкурентској борби и све софистициранијој понуди има веома малу пролазност. С обзиром на дисконитуитет у снабдевању потребним квалитетним увозним сировинама и недовољној финансијској подршци извозно оријетисаној привреди или бар оној која би то могла бити, на домаћем тржишу се дуго објективно и не може постичи виши квалитет ни смањити трошкови производње. Тако су и изостали ефекти на остваривању конкурентније цене, на маркетинг акцијама, на прилагођавању светским стандардима. Без менаџера са високим степеном визије развоја на микро и макро нивоу нема значајнијег искорака српске привреде на светско тржиште.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1:19:36Z</dcterms:created>
  <dc:creator>PC_01</dc:creator>
  <dc:description/>
  <dc:language>en-US</dc:language>
  <cp:lastModifiedBy>PC_01</cp:lastModifiedBy>
  <dcterms:modified xsi:type="dcterms:W3CDTF">2007-06-01T12:06:19Z</dcterms:modified>
  <cp:revision>2</cp:revision>
  <dc:subject/>
  <dc:title>Slide 1</dc:title>
</cp:coreProperties>
</file>