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60C-6E63-43F6-A504-F0EEB37E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64D-700D-47A6-A578-204F0366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D33-A420-4DEB-A954-E995608E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B33-75A4-48CA-A0CE-B5E4C648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DA8-71A9-4397-9673-9B23D204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5BC-5CE1-4749-8B5A-5CE69FBC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B36-AFA8-4F50-848C-FC573BF3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726-C29F-4696-A61E-02EAEF07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0EC-FDDA-43A0-9ACE-6CC14392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16F-F58B-43CD-81B3-189C783D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50C-D908-4734-8382-F59A68A4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DB0-85C8-4B8E-8337-F7B48191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874D-86D4-412C-957F-9D5BD3C82A15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0320"/>
            <a:ext cx="9144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ffff"/>
                </a:solidFill>
                <a:latin typeface="Arial"/>
              </a:rPr>
              <a:t>STANDARDI KVALITET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ffff"/>
                </a:solidFill>
                <a:latin typeface="Arial"/>
              </a:rPr>
              <a:t>I ŽIVOTNE SREDIN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ffff"/>
                </a:solidFill>
                <a:latin typeface="Arial"/>
              </a:rPr>
              <a:t>KAO PRIORITETI SRBIJE U SARADNJI U OKVIRU CEFTA</a:t>
            </a:r>
            <a:r>
              <a:rPr b="0" lang="sr-Latn-C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00"/>
                </a:solidFill>
                <a:latin typeface="Arial"/>
              </a:rPr>
              <a:t>Dr Maja Štrba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729640" y="64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44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708200"/>
            <a:ext cx="9325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ff00"/>
                </a:solidFill>
                <a:latin typeface="Arial"/>
              </a:rPr>
              <a:t>Prednost integrisanih 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ff00"/>
                </a:solidFill>
                <a:latin typeface="Arial"/>
              </a:rPr>
              <a:t>ISO 9001 I ISO 14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Dobro osmišljavanje </a:t>
            </a:r>
            <a:r>
              <a:rPr b="0" lang="sr-Latn-CS" sz="4000" spc="-1" strike="noStrike" u="sng">
                <a:solidFill>
                  <a:srgbClr val="ffff00"/>
                </a:solidFill>
                <a:uFillTx/>
                <a:latin typeface="Arial"/>
              </a:rPr>
              <a:t>sveobuhvatnog </a:t>
            </a: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sistema na samom počet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Smanjuje se obim dokumentaci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Istovremeno se radi obuka kadro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Rade se kombinovani audi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57640" y="6380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89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484280"/>
            <a:ext cx="8137800" cy="7642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Aktivnosti posle sertifik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384280"/>
            <a:ext cx="808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TALNO PREISPITIVANJE SISTEMA OD STRANE  RUKOVO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EDUZIMATI PREVENTIVNE, KOREKTIVNE MERE I MERE POBOLJŠ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PROVODITI OBUKE ZAPOSLENIH NA SVIM NIVO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TALNO ULAGATI U RAZVOJ I UNAPREĐENJE PROC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57640" y="6380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95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2133720"/>
            <a:ext cx="772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ff"/>
                </a:solidFill>
                <a:latin typeface="Arial"/>
              </a:rPr>
              <a:t>ZAKLJUČA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05440" y="6381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100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628640"/>
            <a:ext cx="8732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Arial"/>
              </a:rPr>
              <a:t>POSEDOVANJE SERTIFIKATA KOJIM SE VERIFIKUJE USAGLAŠENOST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Arial"/>
              </a:rPr>
              <a:t>ISO 9001 ILI ISO 14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Arial"/>
              </a:rPr>
              <a:t>OTVARAJU SE NOVE MOGUĆNOSTI ZA POSLOVANJE ORGANIZACIJE NA DOMAĆEM I STRANOM TRŽIŠ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29280" y="64515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105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484280"/>
            <a:ext cx="896472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RGANIZACIJE KOJE IMAJU SERTIFI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85%</a:t>
            </a:r>
            <a:r>
              <a:rPr b="1" lang="sr-Latn-CS" sz="2800" spc="-1" strike="noStrike">
                <a:solidFill>
                  <a:srgbClr val="00cc00"/>
                </a:solidFill>
                <a:latin typeface="Arial"/>
              </a:rPr>
              <a:t> uočava </a:t>
            </a:r>
            <a:r>
              <a:rPr b="1" lang="sr-Latn-CS" sz="2800" spc="-1" strike="noStrike">
                <a:solidFill>
                  <a:srgbClr val="0066ff"/>
                </a:solidFill>
                <a:latin typeface="Arial"/>
              </a:rPr>
              <a:t>poboljšanu kontrolu</a:t>
            </a:r>
            <a:r>
              <a:rPr b="1" lang="sr-Latn-CS" sz="2800" spc="-1" strike="noStrike">
                <a:solidFill>
                  <a:srgbClr val="00cc00"/>
                </a:solidFill>
                <a:latin typeface="Arial"/>
              </a:rPr>
              <a:t> posl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85%</a:t>
            </a:r>
            <a:r>
              <a:rPr b="1" lang="sr-Latn-CS" sz="2800" spc="-1" strike="noStrike">
                <a:solidFill>
                  <a:srgbClr val="00cc00"/>
                </a:solidFill>
                <a:latin typeface="Arial"/>
              </a:rPr>
              <a:t> uočava </a:t>
            </a:r>
            <a:r>
              <a:rPr b="1" lang="sr-Latn-CS" sz="2800" spc="-1" strike="noStrike">
                <a:solidFill>
                  <a:srgbClr val="0066ff"/>
                </a:solidFill>
                <a:latin typeface="Arial"/>
              </a:rPr>
              <a:t>povećano zadovoljstvo kup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65%</a:t>
            </a:r>
            <a:r>
              <a:rPr b="1" lang="sr-Latn-CS" sz="2800" spc="-1" strike="noStrike">
                <a:solidFill>
                  <a:srgbClr val="00cc00"/>
                </a:solidFill>
                <a:latin typeface="Arial"/>
              </a:rPr>
              <a:t> kaže da je </a:t>
            </a:r>
            <a:r>
              <a:rPr b="1" lang="sr-Latn-CS" sz="2800" spc="-1" strike="noStrike">
                <a:solidFill>
                  <a:srgbClr val="0066ff"/>
                </a:solidFill>
                <a:latin typeface="Arial"/>
              </a:rPr>
              <a:t>poboljšana sposobnost da se ugovori pos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60%</a:t>
            </a:r>
            <a:r>
              <a:rPr b="1" lang="sr-Latn-CS" sz="2800" spc="-1" strike="noStrike">
                <a:solidFill>
                  <a:srgbClr val="00cc00"/>
                </a:solidFill>
                <a:latin typeface="Arial"/>
              </a:rPr>
              <a:t> uočava </a:t>
            </a:r>
            <a:r>
              <a:rPr b="1" lang="sr-Latn-CS" sz="2800" spc="-1" strike="noStrike">
                <a:solidFill>
                  <a:srgbClr val="0066ff"/>
                </a:solidFill>
                <a:latin typeface="Arial"/>
              </a:rPr>
              <a:t>poboljšanu produk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60%</a:t>
            </a:r>
            <a:r>
              <a:rPr b="1" lang="sr-Latn-CS" sz="2800" spc="-1" strike="noStrike">
                <a:solidFill>
                  <a:srgbClr val="00cc00"/>
                </a:solidFill>
                <a:latin typeface="Arial"/>
              </a:rPr>
              <a:t> je uočilo </a:t>
            </a:r>
            <a:r>
              <a:rPr b="1" lang="sr-Latn-CS" sz="2800" spc="-1" strike="noStrike">
                <a:solidFill>
                  <a:srgbClr val="0066ff"/>
                </a:solidFill>
                <a:latin typeface="Arial"/>
              </a:rPr>
              <a:t>smanjenje troš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55%</a:t>
            </a:r>
            <a:r>
              <a:rPr b="1" lang="sr-Latn-CS" sz="2800" spc="-1" strike="noStrike">
                <a:solidFill>
                  <a:srgbClr val="00cc00"/>
                </a:solidFill>
                <a:latin typeface="Arial"/>
              </a:rPr>
              <a:t> tvrdi da je sertifikacija </a:t>
            </a:r>
            <a:r>
              <a:rPr b="1" lang="sr-Latn-CS" sz="2800" spc="-1" strike="noStrike">
                <a:solidFill>
                  <a:srgbClr val="0066ff"/>
                </a:solidFill>
                <a:latin typeface="Arial"/>
              </a:rPr>
              <a:t>poboljšala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50%</a:t>
            </a:r>
            <a:r>
              <a:rPr b="1" lang="sr-Latn-CS" sz="2800" spc="-1" strike="noStrike">
                <a:solidFill>
                  <a:srgbClr val="00cc00"/>
                </a:solidFill>
                <a:latin typeface="Arial"/>
              </a:rPr>
              <a:t> uočava </a:t>
            </a:r>
            <a:r>
              <a:rPr b="1" lang="sr-Latn-CS" sz="2800" spc="-1" strike="noStrike">
                <a:solidFill>
                  <a:srgbClr val="0066ff"/>
                </a:solidFill>
                <a:latin typeface="Arial"/>
              </a:rPr>
              <a:t>veće učešće na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Arial"/>
              </a:rPr>
              <a:t>Izvor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RI/SCG-ICS, preuzeto iz</a:t>
            </a:r>
            <a:r>
              <a:rPr b="1" i="1" lang="sr-Latn-CS" sz="1400" spc="-1" strike="noStrike">
                <a:solidFill>
                  <a:srgbClr val="000000"/>
                </a:solidFill>
                <a:latin typeface="Arial"/>
              </a:rPr>
              <a:t>: “Implementacija ISO 9001 i ISO 14001 u malim i srednjim preduzećima”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1400" spc="-1" strike="noStrike">
                <a:solidFill>
                  <a:srgbClr val="000000"/>
                </a:solidFill>
                <a:latin typeface="Arial"/>
              </a:rPr>
              <a:t>USAID/CRDA program za uvođenje ISO/HACCP standarda,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2005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57640" y="6380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110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@</a:t>
              </a:r>
              <a:r>
                <a:rPr b="0" lang="sr-Latn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177336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VALA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A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PA</a:t>
            </a:r>
            <a:r>
              <a:rPr b="0" lang="sr-Latn-CS" sz="9600" spc="-1" strike="noStrike">
                <a:solidFill>
                  <a:srgbClr val="ffffff"/>
                </a:solidFill>
                <a:latin typeface="Arial"/>
              </a:rPr>
              <a:t>ŽNJ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657640" y="6380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115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@</a:t>
              </a:r>
              <a:r>
                <a:rPr b="0" lang="sr-Latn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700280"/>
            <a:ext cx="8064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00"/>
                </a:solidFill>
                <a:latin typeface="Arial"/>
              </a:rPr>
              <a:t>RADNA GRUPA RO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00"/>
                </a:solidFill>
                <a:latin typeface="Arial"/>
              </a:rPr>
              <a:t>NACIONALNOG KONVENTA O E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00"/>
                </a:solidFill>
                <a:latin typeface="Arial"/>
              </a:rPr>
              <a:t>I zasedanje - 12. decembra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00"/>
                </a:solidFill>
                <a:latin typeface="Arial"/>
              </a:rPr>
              <a:t>Tema: CEFTA 2006 i protok robe na prostoru Jugoistočne Ev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Problemi koje Srbija mora hitno rešavati 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standardi i kvalitet proizvoda.</a:t>
            </a: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Država treba da pokrene i podstakne preduzeća ka podizanju stepena kvaliteta i sertifikacije proizv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Napraviti opšti program sertifikacije.“</a:t>
            </a: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32960" y="6381720"/>
            <a:ext cx="3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49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52360" y="1916280"/>
            <a:ext cx="96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00"/>
                </a:solidFill>
                <a:latin typeface="Arial"/>
              </a:rPr>
              <a:t>RADNA GRUPA ZA REGIONALNU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1" i="1" lang="sr-Latn-CS" sz="2400" spc="-1" strike="noStrike">
                <a:solidFill>
                  <a:srgbClr val="006600"/>
                </a:solidFill>
                <a:latin typeface="Arial"/>
              </a:rPr>
              <a:t>ARADN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00"/>
                </a:solidFill>
                <a:latin typeface="Arial"/>
              </a:rPr>
              <a:t>NACIONALNOG KONVENTA O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00"/>
                </a:solidFill>
                <a:latin typeface="Arial"/>
              </a:rPr>
              <a:t>II zasedanje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i="1" lang="sr-Latn-CS" sz="2400" spc="-1" strike="noStrike">
                <a:solidFill>
                  <a:srgbClr val="006600"/>
                </a:solidFill>
                <a:latin typeface="Arial"/>
              </a:rPr>
              <a:t>Beograd, 7. februara 2007.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00"/>
                </a:solidFill>
                <a:latin typeface="Arial"/>
              </a:rPr>
              <a:t>Tema: Ekonomska saradnja u regi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Vlada treba što pre da odre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zaštitu i unapredjenje životne sredine kao razvojni prioritet</a:t>
            </a: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i donese integrisani program mera i akcija za koordiniranu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izgradnju sistema zaš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i unapredjenja životne sred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Arial"/>
              </a:rPr>
              <a:t>uz jačanje nadležnih institucij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75640" y="63086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54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191628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ISO 9001 I ISO 14001 PREDSTAVLJA MEĐUNARODNO PRIZNATI JE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ILI OSNOVU KOJA OLAKŠAVA USPOSTAVLJANJE ODNOSA IZMEĐU KUPACA I ISPORUČILA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ORED KVALITETA ROBA I USLUGA KUPCI I ISPORUČIOCI TRAŽE DOKAZ O </a:t>
            </a:r>
            <a:r>
              <a:rPr b="1" lang="sr-Latn-CS" sz="2800" spc="-1" strike="noStrike">
                <a:solidFill>
                  <a:srgbClr val="00ff00"/>
                </a:solidFill>
                <a:latin typeface="Arial"/>
              </a:rPr>
              <a:t>DUGOROČNOJ DOSLEDNOSTI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TOG KVALIT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729640" y="64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59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04640"/>
            <a:ext cx="9551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Arial"/>
              </a:rPr>
              <a:t>Kako doneti odluku o prime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Arial"/>
              </a:rPr>
              <a:t>zahteva standarda ISO 9001 i ISO 1400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ff"/>
                </a:solidFill>
                <a:latin typeface="Arial"/>
              </a:rPr>
              <a:t>Definisati cilje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cc"/>
                </a:solidFill>
                <a:latin typeface="Arial"/>
              </a:rPr>
              <a:t>Povećanje kvaliteta svojih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cc"/>
                </a:solidFill>
                <a:latin typeface="Arial"/>
              </a:rPr>
              <a:t>Kontinualno zadovoljenje zahteva kup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cc"/>
                </a:solidFill>
                <a:latin typeface="Arial"/>
              </a:rPr>
              <a:t>Povećanje učešća na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cc"/>
                </a:solidFill>
                <a:latin typeface="Arial"/>
              </a:rPr>
              <a:t>Smanjenje neusaglašenih proizv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cc"/>
                </a:solidFill>
                <a:latin typeface="Arial"/>
              </a:rPr>
              <a:t>Smanjenje uticaja aktivnosti organizacije na životnu sred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cc"/>
                </a:solidFill>
                <a:latin typeface="Arial"/>
              </a:rPr>
              <a:t>Smanjenje troš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729640" y="64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64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" y="1413000"/>
            <a:ext cx="89852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Arial"/>
              </a:rPr>
              <a:t>Ko su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zainteresovane stran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Kupci</a:t>
            </a:r>
            <a:r>
              <a:rPr b="1" lang="sr-Latn-C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– uglavnom zahtevaju od organizacije sertifikat ukoliko imaju 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Zaposleni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– jasno definisani procesi rada poboljšavaju efektivnost rada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Isporučioci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– poboljšava se rad (sirovine, materijal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Vlasnici</a:t>
            </a:r>
            <a:r>
              <a:rPr b="1" lang="sr-Latn-C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li</a:t>
            </a:r>
            <a:r>
              <a:rPr b="1" lang="sr-Latn-C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kcionari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– povećanje profita, smanjeni broj reklamacija, ispoštovani rokovi naplate...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Građani</a:t>
            </a:r>
            <a:r>
              <a:rPr b="1" lang="sr-Latn-C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društvena zajednica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– uticaj aktivnosti organizacije na životnu sred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Inspekc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– primena zakona i propisa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729640" y="64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69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62864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00"/>
                </a:solidFill>
                <a:latin typeface="Arial"/>
              </a:rPr>
              <a:t>Glavni razlo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zi</a:t>
            </a:r>
            <a:r>
              <a:rPr b="1" lang="sr-Latn-CS" sz="2800" spc="-1" strike="noStrike">
                <a:solidFill>
                  <a:srgbClr val="003300"/>
                </a:solidFill>
                <a:latin typeface="Arial"/>
              </a:rPr>
              <a:t> za sertifikaciju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6600"/>
                </a:solidFill>
                <a:latin typeface="Arial"/>
              </a:rPr>
              <a:t>Interna operativna efikas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6600"/>
                </a:solidFill>
                <a:latin typeface="Arial"/>
              </a:rPr>
              <a:t>Zahtevi kup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6600"/>
                </a:solidFill>
                <a:latin typeface="Arial"/>
              </a:rPr>
              <a:t>Smanjenje troš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Neka 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tržišta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zahtevaju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ISO 9001 i ISO 14001 sertifikaciju, neka tržišta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favorizuju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kompanije koje imaju sertifik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noge 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kompanije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zahtevaju od kupca da dobije sertifikaciju kao zahtev za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nastavak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ili za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očetak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poslovanja sa n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29640" y="64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74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64160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00"/>
                </a:solidFill>
                <a:latin typeface="Arial"/>
              </a:rPr>
              <a:t>Koristi od standarda ISO 9001 i ISO 14001</a:t>
            </a:r>
            <a:r>
              <a:rPr b="0" lang="sr-Latn-C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Problemi se trajno rešav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Kvalitet sva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odnevnog posla je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oboljš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Komunikacija u organizaciji je poboljšana na svim nivo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Lakše se prepoznaju očekivanja kup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Uočava se finansijska ko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posobnost brzog reagovanja na zahteve zainteresovanih st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Optimizacija tro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62840" y="6553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79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773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Kada se zahtevi standarda u organizaciji </a:t>
            </a:r>
            <a:r>
              <a:rPr b="1" lang="sr-Latn-CS" sz="3200" spc="-1" strike="noStrike" u="sng">
                <a:solidFill>
                  <a:srgbClr val="000066"/>
                </a:solidFill>
                <a:uFillTx/>
                <a:latin typeface="Arial"/>
              </a:rPr>
              <a:t>primenjeni</a:t>
            </a: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 uočavaju se osnovn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red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Kvalitet se stalno kontroli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Neusaglašenosti u poslovanju se ranije uočavaju i korigu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Organizacije zadržavaju ili povećavaju udeo na svetskom tržištu, povećavaju prodaju odnosno pro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584920" y="630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93760" y="189000"/>
            <a:ext cx="8526240" cy="1159560"/>
            <a:chOff x="293760" y="189000"/>
            <a:chExt cx="8526240" cy="1159560"/>
          </a:xfrm>
        </p:grpSpPr>
        <p:sp>
          <p:nvSpPr>
            <p:cNvPr id="84" name=""/>
            <p:cNvSpPr/>
            <p:nvPr/>
          </p:nvSpPr>
          <p:spPr>
            <a:xfrm>
              <a:off x="293760" y="18900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8"/>
            <a:stretch/>
          </p:blipFill>
          <p:spPr>
            <a:xfrm>
              <a:off x="654120" y="263160"/>
              <a:ext cx="114120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9:00:42Z</dcterms:created>
  <dc:creator>Computer</dc:creator>
  <dc:description/>
  <dc:language>en-US</dc:language>
  <cp:lastModifiedBy>PC_01</cp:lastModifiedBy>
  <dcterms:modified xsi:type="dcterms:W3CDTF">2007-06-12T06:27:14Z</dcterms:modified>
  <cp:revision>63</cp:revision>
  <dc:subject/>
  <dc:title>Slide 1</dc:title>
</cp:coreProperties>
</file>