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5082-9C6A-4928-9C7B-3CEBD14B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D6EA-B68E-4E90-B70E-7399AA8A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9B540-ED86-482B-8CDF-3D615028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E7FC-5A49-419B-B839-67E1892E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91E3-E9F8-4125-8DEB-8C958BAA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F02C-9B04-4367-AD2B-D6A851E8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5F9D-F79A-40BF-B103-281B33E7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91E7-B21C-43A5-B724-6309A9CA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766B-65D6-40DB-AB2C-0A3A3366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8BB5-5BCF-4411-BC19-28DFDE18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91CC-8EF9-4784-9C6D-18761F90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B6E33-8170-40E6-AA1A-8BD99441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5A33-D87E-439B-AF01-8FF616FD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1BD5-179F-49B1-9AA4-E1B49F92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5130-CB3C-4C25-B975-6200457D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F1CD-5EB3-43E4-9B75-EACD7FEA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1314-9F1E-4133-A148-7ED43576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5C210-FB78-4F4D-9C6B-B39473A2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0C0D-E922-4439-9469-2ADB0D1A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3032-4E6E-4471-8F59-A7953443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162B-7A7F-4A61-B4D4-519CE654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01EFC-A3EA-48F0-B5C9-4730268A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4B44-9423-46EB-8E1D-A76A4B2E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0B8FA-11B2-447C-9F4C-54FE841C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857C-F30A-4A2C-BAEE-FDE9831EED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C48B-D96B-4DF5-8236-A35DCB62C3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office@mail.iep.bg.ac.yu" TargetMode="External"/><Relationship Id="rId2" Type="http://schemas.openxmlformats.org/officeDocument/2006/relationships/hyperlink" Target="mailto:office@mail.iep.bg.ac.yu" TargetMode="External"/><Relationship Id="rId3" Type="http://schemas.openxmlformats.org/officeDocument/2006/relationships/hyperlink" Target="mailto:office@mail.iep.bg.ac.yu" TargetMode="External"/><Relationship Id="rId4" Type="http://schemas.openxmlformats.org/officeDocument/2006/relationships/hyperlink" Target="mailto:iepbgdyu@eunet.yu" TargetMode="External"/><Relationship Id="rId5" Type="http://schemas.openxmlformats.org/officeDocument/2006/relationships/hyperlink" Target="mailto:iepbgdyu@eunet.yu" TargetMode="External"/><Relationship Id="rId6" Type="http://schemas.openxmlformats.org/officeDocument/2006/relationships/hyperlink" Target="mailto:iepbgdyu@eunet.yu" TargetMode="External"/><Relationship Id="rId7" Type="http://schemas.openxmlformats.org/officeDocument/2006/relationships/hyperlink" Target="mailto:iepbgdyu@eunet.yu" TargetMode="External"/><Relationship Id="rId8" Type="http://schemas.openxmlformats.org/officeDocument/2006/relationships/hyperlink" Target="mailto:iepbgdyu@eunet.yu" TargetMode="External"/><Relationship Id="rId9" Type="http://schemas.openxmlformats.org/officeDocument/2006/relationships/hyperlink" Target="http://www.iep.bg.ac.yu/" TargetMode="External"/><Relationship Id="rId10" Type="http://schemas.openxmlformats.org/officeDocument/2006/relationships/hyperlink" Target="http://www.iep.bg.ac.yu/" TargetMode="External"/><Relationship Id="rId11" Type="http://schemas.openxmlformats.org/officeDocument/2006/relationships/hyperlink" Target="http://www.iep.bg.ac.yu/" TargetMode="External"/><Relationship Id="rId12" Type="http://schemas.openxmlformats.org/officeDocument/2006/relationships/hyperlink" Target="http://www.iep.bg.ac.yu/" TargetMode="External"/><Relationship Id="rId13" Type="http://schemas.openxmlformats.org/officeDocument/2006/relationships/hyperlink" Target="http://www.iep.bg.ac.yu/" TargetMode="External"/><Relationship Id="rId14" Type="http://schemas.openxmlformats.org/officeDocument/2006/relationships/hyperlink" Target="http://www.iep.bg.ac.yu/" TargetMode="External"/><Relationship Id="rId15" Type="http://schemas.openxmlformats.org/officeDocument/2006/relationships/hyperlink" Target="http://www.iep.bg.ac.yu/" TargetMode="External"/><Relationship Id="rId16" Type="http://schemas.openxmlformats.org/officeDocument/2006/relationships/hyperlink" Target="http://www.iep.bg.ac.yu/" TargetMode="External"/><Relationship Id="rId17" Type="http://schemas.openxmlformats.org/officeDocument/2006/relationships/hyperlink" Target="http://www.iep.bg.ac.yu/" TargetMode="External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44640"/>
            <a:ext cx="8640720" cy="27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CEFTA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FAKTOR UNAPREĐENJA AGROPRIVREDE SRBIJE SA AKCENTOM NA U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G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 PRIVREDNIH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KOMORA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MPLEMENTACIJI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PORAZUM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76360" y="573372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cc00"/>
                </a:solidFill>
                <a:latin typeface="Arial"/>
              </a:rPr>
              <a:t>Mr Branko Mihailovi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879480" y="-34308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04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141264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Tr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ž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i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š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te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CEFTA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od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30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miliona potro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š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č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a za Srbiju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ima veliki zna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č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aj budu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ć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i da se u robnoj razmeni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sa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ovom grupom zemalja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ostvaruje suficit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8920" y="292428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Preferencijaln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i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status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Srbije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u trgovini sa EU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3500280"/>
            <a:ext cx="719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Preferencijalni status omogućava izvoz 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tržište EU 85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%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poljoprivrednih proizvod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oslobođen svih dažbin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8200" y="4941720"/>
            <a:ext cx="80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j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unetina, vino i šećer nalaze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se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na režimu kvot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8200" y="5516640"/>
            <a:ext cx="71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U trgovini sa EU u oblasti agrara suficit 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beleži neprekidno od 2000. godine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200" y="8892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89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Privredne komore moraju biti aktivni učesnici u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"/>
          <p:cNvSpPr/>
          <p:nvPr/>
        </p:nvSpPr>
        <p:spPr>
          <a:xfrm>
            <a:off x="604800" y="2054160"/>
            <a:ext cx="58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kreiranju regionalnog proizvod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256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organizovanju zajedničkog regionaln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privrednog nastupa na trećim tržištim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7680" y="3693960"/>
            <a:ext cx="57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promociji regionalne ekonomije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5880" y="4341960"/>
            <a:ext cx="60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informisanje privrednih subjekat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5520" y="4991040"/>
            <a:ext cx="725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obučavanje i inoviranje njihovog znanja 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edukacija poslovnih ljudi u skladu 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evropskim standardim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1840" y="-1270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99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plit dir="out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00"/>
                </a:solidFill>
                <a:latin typeface="Arial"/>
              </a:rPr>
              <a:t>Obaveze koje proizilaze iz  CEFTA Sporazuma ističu nekoliko izuzetno važnih oblasti u kojima je potrebna dinamičnija uloga komora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3640" y="3068640"/>
            <a:ext cx="42303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ffcc00"/>
                </a:solidFill>
                <a:latin typeface="Arial"/>
              </a:rPr>
              <a:t>Dalja liberalizacij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"/>
          <p:cNvSpPr/>
          <p:nvPr/>
        </p:nvSpPr>
        <p:spPr>
          <a:xfrm>
            <a:off x="390960" y="3645000"/>
            <a:ext cx="74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postepena liberalizacija trgovine uslugama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4149720"/>
            <a:ext cx="82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postepeno otvaranje tržišta javnih nabavk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160" y="4941720"/>
            <a:ext cx="64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ffcc00"/>
                </a:solidFill>
                <a:latin typeface="Arial"/>
              </a:rPr>
              <a:t>Zaštita prava intelektualne svojine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2800" y="5734080"/>
            <a:ext cx="73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efikasna zaštita prava intelektualne svoj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u skladu sa međunarodnim standardi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1840" y="16020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209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office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@</a:t>
              </a:r>
              <a:r>
                <a:rPr b="0" lang="sr-Latn-CS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mail.iep.bg.ac.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iepbgd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@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eunet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www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iep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bg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ac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newsflash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ffcc00"/>
                </a:solidFill>
                <a:latin typeface="Arial"/>
              </a:rPr>
              <a:t>Necarinske prepreke na nivou regiona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9280" y="2852280"/>
            <a:ext cx="896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olakšavanje trgovine i transporta sa zemljama   jugoistočne Evrope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251280" y="4005360"/>
            <a:ext cx="800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otklanjanje necarinskih barijera (bilo da se rad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o tradicionalnim, tehničkim ili administrativnim)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560" y="5157720"/>
            <a:ext cx="78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Privredna komora Srbije je izradila upit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i softver za obradu upitnika u cilju prikupljanj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evidentiranja i analize necarinskih barij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9120" y="37800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217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office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@</a:t>
              </a:r>
              <a:r>
                <a:rPr b="0" lang="sr-Latn-CS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mail.iep.bg.ac.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iepbgd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@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eunet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www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iep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bg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ac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hecke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00"/>
                </a:solidFill>
                <a:latin typeface="Arial"/>
              </a:rPr>
              <a:t>U Privrednoj komori Srbije je pokrenuta inicijativa za formiranje Foruma komora CEFTA zemalja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2852640"/>
            <a:ext cx="79311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međusobno priznavanje sertifikat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478320"/>
            <a:ext cx="68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pravila o poreklu robe - stalna edukacij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5080" y="4125960"/>
            <a:ext cx="59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zajednički projekti komora regio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720" y="47736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regionalni tehnološki parkovi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5423040"/>
            <a:ext cx="68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sektorsko povezivanje industrija region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6200" y="-2714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227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office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@</a:t>
              </a:r>
              <a:r>
                <a:rPr b="0" lang="sr-Latn-CS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mail.iep.bg.ac.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iepbgd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@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eunet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www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iep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bg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ac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lus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560" y="1700280"/>
            <a:ext cx="7502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00"/>
                </a:solidFill>
                <a:latin typeface="Arial"/>
              </a:rPr>
              <a:t>Primarni ciljevi  Evrokomora su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277488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stvaranje adekvatnog pravnog okvira privrednih komo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1080" y="3789360"/>
            <a:ext cx="80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jačanje sposobnosti privrednih komora u Evro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u pružanju pomoći ekonomskom razvoju drž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članica </a:t>
            </a:r>
            <a:r>
              <a:rPr b="0" i="1" lang="pl-PL" sz="2800" spc="-1" strike="noStrike">
                <a:solidFill>
                  <a:srgbClr val="ffcc00"/>
                </a:solidFill>
                <a:latin typeface="Arial"/>
              </a:rPr>
              <a:t>Evrokomor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20" y="5300640"/>
            <a:ext cx="769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pripreme privrede zemalja jugoistočne Evr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za punopravnu intergraciju u EU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6200" y="-1983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235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office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@</a:t>
              </a:r>
              <a:r>
                <a:rPr b="0" lang="sr-Latn-CS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mail.iep.bg.ac.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iepbgd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@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eunet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www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iep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bg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ac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newsflash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908000" y="1773360"/>
            <a:ext cx="5183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cc00"/>
                </a:solidFill>
                <a:latin typeface="Arial"/>
              </a:rPr>
              <a:t>HVALA</a:t>
            </a:r>
            <a:r>
              <a:rPr b="1" i="1" lang="en-US" sz="6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"/>
          <p:cNvSpPr/>
          <p:nvPr/>
        </p:nvSpPr>
        <p:spPr>
          <a:xfrm>
            <a:off x="3710160" y="3068640"/>
            <a:ext cx="179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cc00"/>
                </a:solidFill>
                <a:latin typeface="Arial"/>
              </a:rPr>
              <a:t>NA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4653000"/>
            <a:ext cx="424836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cc00"/>
                </a:solidFill>
                <a:latin typeface="Arial"/>
              </a:rPr>
              <a:t>PA</a:t>
            </a:r>
            <a:r>
              <a:rPr b="1" i="1" lang="sr-Latn-CS" sz="8800" spc="-1" strike="noStrike">
                <a:solidFill>
                  <a:srgbClr val="ffcc00"/>
                </a:solidFill>
                <a:latin typeface="Arial"/>
              </a:rPr>
              <a:t>ŽNJI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9120" y="5205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7840" y="52056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243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office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@</a:t>
              </a:r>
              <a:r>
                <a:rPr b="0" lang="sr-Latn-CS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mail.iep.bg.ac.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iepbgd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@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eunet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www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iep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bg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ac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.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Arial"/>
              </a:rPr>
              <a:t>Sporazum o slobodnoj trgovini u centralnoj Evropi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pl-PL" sz="3200" spc="-1" strike="noStrike">
                <a:solidFill>
                  <a:srgbClr val="ffcc00"/>
                </a:solidFill>
                <a:latin typeface="Arial"/>
              </a:rPr>
              <a:t>CEFTA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4221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uslov za ravnomerniji privredni razvo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519120" y="2597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2813040"/>
            <a:ext cx="772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1080" y="4724280"/>
            <a:ext cx="63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uskla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đ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ivanje regulative sa EU i S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8560" y="5300640"/>
            <a:ext cx="77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pove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ć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anje investicija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konkurentnosti i izvoz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0360" y="5877000"/>
            <a:ext cx="59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preduslov za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č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lanstvo Srbije u EU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0000" y="3716280"/>
            <a:ext cx="67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pristup tr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ž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i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š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tu od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30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miliona potro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š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č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1080" y="3213000"/>
            <a:ext cx="67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ffcc00"/>
                </a:solidFill>
                <a:latin typeface="Arial"/>
              </a:rPr>
              <a:t>zamena za sve bilateralne sporazume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3120" y="-34308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17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Arial"/>
              </a:rPr>
              <a:t>Položaj agro sektora Srbije u međunarodnim integracijam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2707920"/>
            <a:ext cx="8785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Na putu međunarodnih integracija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a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groprivre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da Srbije se nalazi pred dvostrukim izazovom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325800" y="3789360"/>
            <a:ext cx="72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usaglašavanj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podrške sa zahtevima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4365720"/>
            <a:ext cx="810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2.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zahtevi Evropske unije u pogledu mod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podrške poljoprivrede su strikt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66100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H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armonizacij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domaće agrarne politike s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Zajedničkom agrarnom politikom EU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3120" y="-34308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26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 spokes="1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9840" y="162828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pod uticajem širenja EU menja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se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struktura njenog unutrašnjeg  tržišt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319320" y="3213000"/>
            <a:ext cx="760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menjaju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se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zahtevi za državnom regulativ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u pogledu podsticanja rasta poljoprivre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d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proizvodnje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5880" y="5084640"/>
            <a:ext cx="784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Položaj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agro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privrede se menja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u zavisnosti 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razvijenosti ovih delatnosti u zemljama koje 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integrišu u EU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32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 spokes="2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1557360"/>
            <a:ext cx="871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Prilagođavanje 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Zajedničk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oj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 agrarn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oj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 politi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ci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 E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zahteva sistematizaciju sledeć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ih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 elemen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ta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3284280"/>
            <a:ext cx="4103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stabilizacija tržišt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-360" y="4076640"/>
            <a:ext cx="71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nadoknade za ekološki i kulturni ambijent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371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0" y="4869000"/>
            <a:ext cx="47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inicijativ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za ruralni razvoj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7340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izdvajanja za pomoć u prilagođavanj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tokom tranziciong period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6200" y="-12708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42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Z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ajednička poljoprivredna politika</a:t>
            </a:r>
            <a:r>
              <a:rPr b="1" i="1" lang="sr-C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će</a:t>
            </a:r>
            <a:r>
              <a:rPr b="1" i="1" lang="sr-C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usloviti sledeće promene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2924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reforme sektora namirnica, kao što s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mlečni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proizvodi, šećer i voće i povrć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41497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prelazak na svetske cene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01336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tržišno orjentisana proizvod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587700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sr-Latn-CS" sz="28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povećanj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veličine prosečnog poljoprivredn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posed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u Srbi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2200" y="-5544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51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560" y="1628640"/>
            <a:ext cx="8281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Arial"/>
              </a:rPr>
              <a:t>Analiza izvoza poljoprivrednih proizvoda iz Srb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358920" y="278136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cc00"/>
                </a:solidFill>
                <a:latin typeface="Arial"/>
              </a:rPr>
              <a:t>tehnološko-ekonomsko zaostajanje kapaciteta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6160" y="3500280"/>
            <a:ext cx="79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domina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cija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tradicionalne industrijske produkcije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4560" y="414972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disperzivan izvozni asortima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4560" y="486900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tradicionaln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i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spoljnotrgovinsk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i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koncep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640" y="5516640"/>
            <a:ext cx="59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zaostajanj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u procesu privatizacije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6165720"/>
            <a:ext cx="77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nerazvijenost institucija privredne nfrastrukture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6200" y="8892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62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trips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557360"/>
            <a:ext cx="8785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Dugo odsustvo domaće ekonomije sa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međunarodnog tržišta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redstavlja značajan ne sam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operativni nego i strateški problem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3213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napor i troškovi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preduzeća između održavanja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i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osvajanja novih tržišta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kreću se u odnosu 1 :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6572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opada u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češće primarnih proizvoda u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međunarodno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razme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4849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projektovane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cene primarnih proizvoda n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međunarodnom tržištu će i narednih des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godina biti na relativno niskom nivou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3120" y="23328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70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newsflash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Srbija je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u 2006. godini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izve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z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la poljoprivredne i prehrambene proizvode vredne 1,26 milijardi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24922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Stopa rasta izvoza od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18,2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%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prema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2005.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g.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640" y="3068640"/>
            <a:ext cx="74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Izvoz hrane i poljoprivrednih proizvoda čin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je gotovo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1/5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ukupnog izvoza Srb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1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4076640"/>
            <a:ext cx="824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Najviše je izvezeno kukuruza, šećer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a,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voć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i povrć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5084640"/>
            <a:ext cx="78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N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ajveće učešće u uvozu poljoprivredni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proizvoda imali su duvan i duvanski proizvodi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sirova kafa i ban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1840" y="16020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93760" y="44280"/>
            <a:ext cx="8526240" cy="1159560"/>
            <a:chOff x="293760" y="44280"/>
            <a:chExt cx="8526240" cy="1159560"/>
          </a:xfrm>
        </p:grpSpPr>
        <p:sp>
          <p:nvSpPr>
            <p:cNvPr id="180" name=""/>
            <p:cNvSpPr/>
            <p:nvPr/>
          </p:nvSpPr>
          <p:spPr>
            <a:xfrm>
              <a:off x="293760" y="44280"/>
              <a:ext cx="8526240" cy="1159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ИНСТИТУТ ЗА ЕКОНОМИКУ ПОЉОПРИВРЕДЕ БЕОГРА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110</a:t>
              </a:r>
              <a:r>
                <a:rPr b="1" lang="en-U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6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 Београд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ул. Волгина бр. 15, пош.фах. 9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И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100158707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МБ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701764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/факс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011/29-72-858, 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тел: </a:t>
              </a:r>
              <a:r>
                <a:rPr b="0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011/29-72-84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6081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e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-</a:t>
              </a:r>
              <a:r>
                <a:rPr b="1" lang="sr-CS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пошта</a:t>
              </a:r>
              <a:r>
                <a:rPr b="1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:</a:t>
              </a:r>
              <a:r>
                <a:rPr b="0" lang="ru-RU" sz="1400" spc="-1" strike="noStrike">
                  <a:solidFill>
                    <a:srgbClr val="000514"/>
                  </a:solidFill>
                  <a:latin typeface="Arial"/>
                  <a:ea typeface="Arial"/>
                </a:rPr>
                <a:t>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"/>
                </a:rPr>
                <a:t>office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2"/>
                </a:rPr>
                <a:t>@</a:t>
              </a:r>
              <a:r>
                <a:rPr b="0" lang="sr-Latn-CS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3"/>
                </a:rPr>
                <a:t>mail.iep.bg.ac.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4"/>
                </a:rPr>
                <a:t>iepbgdyu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5"/>
                </a:rPr>
                <a:t>@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6"/>
                </a:rPr>
                <a:t>eunet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7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8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; 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9"/>
                </a:rPr>
                <a:t>www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0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1"/>
                </a:rPr>
                <a:t>iep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2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3"/>
                </a:rPr>
                <a:t>bg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4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5"/>
                </a:rPr>
                <a:t>ac</a:t>
              </a:r>
              <a:r>
                <a:rPr b="0" lang="ru-RU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6"/>
                </a:rPr>
                <a:t>.</a:t>
              </a:r>
              <a:r>
                <a:rPr b="0" lang="de-DE" sz="14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  <a:hlinkClick r:id="rId17"/>
                </a:rPr>
                <a:t>yu</a:t>
              </a:r>
              <a:r>
                <a:rPr b="0" lang="ru-RU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8"/>
            <a:stretch/>
          </p:blipFill>
          <p:spPr>
            <a:xfrm>
              <a:off x="654120" y="118800"/>
              <a:ext cx="11412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07:09:47Z</dcterms:created>
  <dc:creator>pcc</dc:creator>
  <dc:description/>
  <dc:language>en-US</dc:language>
  <cp:lastModifiedBy>PC_01</cp:lastModifiedBy>
  <dcterms:modified xsi:type="dcterms:W3CDTF">2007-06-12T09:54:46Z</dcterms:modified>
  <cp:revision>88</cp:revision>
  <dc:subject/>
  <dc:title>Slide 1</dc:title>
</cp:coreProperties>
</file>