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E00-F7E7-428E-B468-A3C32963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ED4-4D0B-42D5-A574-C76CDE5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86C-157E-4039-A862-F9A373C9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023-92E9-4DAF-8FC4-B300B5CA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EDEA-073B-4B17-9877-8AB60D22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BA1-0FB6-44A3-945A-8BAD4D10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C3D4-A0AF-4981-8813-6529FC3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F261-4450-4B17-90AF-4C42ABF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5370-A6BB-4DBF-9484-FF83466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0FE5-93A1-4172-AFE7-CF39F3E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A78C-3CCC-4EBF-99B2-1921A61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16F-D7DE-4665-8E62-EB5275D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5279-20D9-4462-A169-5273C20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EC54-1E3C-4E62-98C4-2E0E8D6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D74E-B334-446F-A969-F7AFA60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E19-107C-4133-AA7E-50DFA5DC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0FF2-AFFC-4C00-BBDE-57FC259B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E9D-B638-43C8-804C-A241AB4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4B7-2298-4C50-9EC0-0DD6CED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E2A-ADA8-480D-8DD8-23BDBAE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092-FDBF-43D2-BE55-EC9D3BF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4F0-FB3C-4E5E-A25D-32CD19F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6B8-662D-4BE9-B527-D024BB1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327-0F71-4B1A-823C-6A15A6F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7AC-ACD8-4476-B7E4-5B9934252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C61-83A5-4FE6-850D-6F1BB1181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office@mail.iep.bg.ac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mailto:iepbgdyu@eunet.yu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hyperlink" Target="http://www.iep.bg.ac.yu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Arial Black"/>
              </a:rPr>
              <a:t>НЕКИ ПРОБЛЕМИ У ПРИМЕНИ СПОРАЗУМА  ЦЕФТА У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Arial Black"/>
              </a:rPr>
              <a:t>ОБЛАСТИ АГРАРА (ПРОБЛЕМИ ДУВНА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р Зоран Симоно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01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аринск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 ову ад валорем стопу царине предлагаће се и минимална специфична царина од 5.15 /1000 цигарета, како не би дошло до смањења укупних прихода од акциза и царина за категорију цигарета са најнижом малопродајном ценом, и максимална специфична царина од 7,57 /1000 цигарета да би укупан ниво прихода од царина и акциза остао исти за категорију цигарета са највишом малопродајном цен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4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ре у области акциз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менама и допунама Закона о акцизама почев од 1. јануара 2008. године прописаће се јединствена специфична и пропорционална акциза на све цигарете, како за домаће, тако и за цигарете из увоза. Висина стопе и износи акциза ће бити утврђени за период од наредних пет година, тј. закључно са 2012. годином. За 2007. годину прописаће се стопа и износи акциза који су већ садржани у Предлогу закона о изменама и допунама Закона акцизама који се већ налази у скупштинској процедур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5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85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ере у области других прописа којима се уређују услови производње и промета дувана и дуванских производ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кон о дувану који целовито уређује производњу и промет дувана и дуванских производа ће бити усаглашен са начелима и правилима СТО. С тим у вези, Закон о дувану ће бити измењен у делу који се односи на обавезу производње или откупа домаћег обрађеног дувана од стране произвођача дуванских производа. Почев од 1. јануара 2008. године ова обавеза ће бити укинута, а за 2007. годину биће смањена за 20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796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тојећа посебна накнада на дуванске производе "буџетски динар" прописана Законом о дувану ће бити укинута од 1. јануара 2008. године, с тим што би се износ "буџетског динара" интегрисао у специфичну акцизу која ће се усклађивати са стопом раста цена на мало и одговарајући износ средстава кроз буџетске расходе усмерити на Буџетски фонд за опредељене наме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56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грар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рарним мерама подржаће се развој примарне производње потребних сорти дувана, као и побољшање њиховог квалит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61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385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600" spc="-1" strike="noStrike">
                <a:solidFill>
                  <a:srgbClr val="ffffb7"/>
                </a:solidFill>
                <a:latin typeface="Arial Black"/>
              </a:rPr>
              <a:t>ЗАКЉУЧАК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6858000"/>
            <a:ext cx="800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66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а карају можемо да закључимо да 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усвајање неопходних измена у домаћем правном систему довело би до несагледивих штетних последица по Републику Србију, тако да је у националном интересу усвајање Акционог плана за имплементацију ЦЕФТА споразума у делу који се односи на производњу и промет дувана и дуванских производ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. Ове измене би биле 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иљу обезбеђивања равноправних и стабилних услова за развој домаће дуванске индустрије, очувања тржишног учешћа у односу на увозни сегмент, стабилног економског положаја произвођача и обрађивача сировог дувана, веће продуктивности у овој грани пољопривреде, стабилног фискалног прихода од промета дувана и дуванских производа и усклађености националног законодавства са законодавством ЕУ и правилима СТ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71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5120" y="504720"/>
            <a:ext cx="5410080" cy="63532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0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9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енутни однос царинских стопа замаља у регион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рбији је тренутно царинска стопа на увоз цигарета 15 процената, у Бугарској 50, Румунији 98, а у Хрватској 38 од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ватска, за сада, не одустаје од захтева да Србија изједначи акцизе за домаће и стране цигарете, али исто тако не пристаје ни на српски захтев и смањи царине на увоз цигарета које износе 38 процен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1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Arial Black"/>
              </a:rPr>
              <a:t>Ратификација споразима ЦЕФ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800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тификација ЦЕФТА, преговори о приступању СТО и другим међународним организацијама, као и закључивање других међународних споразума непосредно захтевају отклањање постојећег различитог пореског третмана домаћих и увозних цигарета и укидање обавезе откупа или производње домаћег обрађеног дувана. Испуњавање ових захтева без одговарајућег прилагођавања правног оквира у домену опорезивања, производње и промета дувана и дуванских производа доводи у питање до сада постигнуте резултате, а посебно стабилност јавних прихода и одрживост инвестиција у домаћу дуванску индустриј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1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85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Arial Black"/>
              </a:rPr>
              <a:t>Кључни циље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ви циљ је био стварање претпоставки за успешну приватизацију домаће дуванске индустрије којом би се омогућило повећање ефикасности и конкурентности уз помоћ инвестиција, преноса технологије и техничких знања и вештина. Овај циљ је било могуће остварити привлачењем стратешких страних инвестит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и циљ је стварање услова да се позитивни утицаји приватизације прошире на све учеснике у производно прометном ланцу дуванске индустрије и успостављање јасних правила која омогућавају контролу производње и промета дувана и дуванских произв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ћи циљ је успостављање таквог система опорезивања дуванских производа који обезбеђује стабилан порески приход, као и постепено усклађивање са правилима СТО и законодавством Е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2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Arial Black"/>
              </a:rPr>
              <a:t>Измена правног окви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азећи од потребе да се услови производње и промета дувана и дуванских производа и њихово опорезивање прилагоде променама које ће наступити услед приступања ЦЕФТА и другим међународним споразумима, као и другим међународним организацијама (СТО и др.), постојећи правни оквир измениће се у складу са следећим начелим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равноправност услова пословања за све учеснике на домаћем и регионалном тржишт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дугорочна извесност и очување производних капацитета домаће дуванске индустриј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стабилност буџетских прихода од акциза на дуванске производе и транспарентност опорезивања дуванских произво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усклађеност националног законодавства са законодавством ЕУ и правилима 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2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Наведена начела измене постојећег правног оквира за опорезивање, производњу и промет дувана и дуванских производа треба да омогуће постизање три основна циљ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388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спречавање могућих озбиљних поремећаја на домаћем тржишту дуванских производа и у трговинском биланс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очување и раст запослености у производно прометном ланцу дуванске индустриј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повећање обима производње и извоз дувана и дуванских производ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3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РЕ И АКТИВ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варивање циљева овог акционог плана захтева активности на измени царинских прописа, прописа који уређују област акциза и других прописа и одредби којима се уређују услови производње и промета дувана и дуванских произв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3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аринск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вим будућим преговорима о закључивању међународних споразума и приступању међународним организацијама предлагаће се стопа царине у висини од 57,6% на увоз цигарета из тарифног броја 2402 Закона о Царинској тарифи ("Службени гласник РС",броj 62/05), што је у складу са висином стопе царине у Е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. Стране ће такође примењивати царину по стопи најповлашћеније нације на увоз производ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4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99ff66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_01</cp:lastModifiedBy>
  <dcterms:modified xsi:type="dcterms:W3CDTF">2007-06-13T07:17:5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